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660-7E03-4C39-AF59-55EE13DD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879-4C04-43B7-B426-A1C75EE2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C47-61E5-454F-B9AC-61B98F98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278-58FA-4566-A41B-11E9B8D4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AC1C-0ED8-46D5-A84D-BBBE0425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4D09-3BC4-433A-8079-7C97431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98D9-2226-49D1-8893-F72E553B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DE2-9F1A-4BB6-957E-E1A65BE7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C981-0818-470B-B74C-AEB12E3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C35-87ED-4F91-B455-0EFA953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7BB5-9646-46A2-BEC2-5A825BB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EED-E3F2-4BC3-9F2C-5B98CFD8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37EE-FF67-4CFE-85E9-09D1276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316B-D990-49D6-8808-50DEE2F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C94C-C6CB-497E-917A-2B0B739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5AC3-058B-4839-BF8B-D3514F54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450F-0A56-4D2C-A2D8-DEF29D78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6DF-8E42-4188-9FC3-B4DB34C7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CEB-9CA0-4BA2-975A-679CD4E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21F-34AA-473A-A6C7-BCAEEEED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417-E44E-47BB-9ABB-EFA6749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6C7-A373-4DA7-80E3-7BC9C3C1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16B-E3FB-4638-876A-97F3E69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D0B-625F-4B17-B67E-CADB22E5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89EFE54-6705-48E1-8319-2513C73BBA38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9CB0800-4E30-433D-A0C7-09FCAF7FF2E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DA856FC-F5C1-4B54-920F-78E2A7F481FA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2B48B68-BB10-4E0F-BA64-D3ABD32ACDD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Bases de TCP/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Direccionamiento y ruteo de TCP/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MA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(Control de Acceso al Medio) son direcciones únicas dadas a los clientes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rimera parte de la dirección MAC es asignada al fabricante del hardwa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esto de la dirección es determinada por cada fabrica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positivos que no son administrables (ejemplo, HUBs y algunos switches) no tienen dirección MA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son usadas para direccionar en la capa de enlace de datos (capa 2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no son usadas para agrup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dentro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ogía: Las direcciones MAC son como el numero de CURP de cada pers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IP son usadas para el direccionamiento lógico en la capa de red (capa 3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l como las direcciones MAC donde no hay similitud entre 2 direcciones, con la diferencia que las direcciones IP permiten agrupar computad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s, dirección de 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referenciadas por humanos vía notación decimal, un numero por cada 8 bits (1 octeto o byte), ejemplo., 159.148.147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de tres clases primarias A, B, and C (clase D es para multicast) en la forma [netid:host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ogía: Direcciones IP son como la dirección postal de cad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1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os primeros 3 bits de una dirección IP hacen la cl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52360" y="2916360"/>
          <a:ext cx="7848360" cy="3703680"/>
        </p:xfrm>
        <a:graphic>
          <a:graphicData uri="http://schemas.openxmlformats.org/drawingml/2006/table">
            <a:tbl>
              <a:tblPr/>
              <a:tblGrid>
                <a:gridCol w="2344680"/>
                <a:gridCol w="1220760"/>
                <a:gridCol w="1314360"/>
                <a:gridCol w="1501920"/>
                <a:gridCol w="1466640"/>
              </a:tblGrid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X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road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ón multi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3280" y="1908000"/>
          <a:ext cx="9072360" cy="4264200"/>
        </p:xfrm>
        <a:graphic>
          <a:graphicData uri="http://schemas.openxmlformats.org/drawingml/2006/table">
            <a:tbl>
              <a:tblPr/>
              <a:tblGrid>
                <a:gridCol w="1944720"/>
                <a:gridCol w="3313080"/>
                <a:gridCol w="38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de dire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127.0.0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27.XXX.XXX.XX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xxx.0.0 - 191.xxx.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xxx.yyy.0 - 223.xxx.yyy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xxx.yyy.zzz - 239.xxx.yyy.z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Redes IP dadas, pueden dividirse en redes mas pequeñas, llamadas sub-red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El tamaño de una subred es determinada por la mascara de red (mascara de sub-red, mascara de re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ascaras de sub-redes tienen el hostid con todos los bits=0, y el netid con todos los bits=1, por ejemplo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10000000 (255.255.255.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00000000 (255.255.25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00000000 00000000 (255.255.0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a operación lógica AND es usada para calcular la dirección de red desde direcciones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y mascara de r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00000000 (s:255.255.255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00000000 (n:128.192.1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alcula la dirección de red del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, si la mascara es de 26 bits (use la dirección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del ejemplo pasado)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11000000 (s:255.255.255.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________ (n:128.192.10.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pacio de direccionamiento y 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para hosts están disponibles cuando dividimos una red de 24 bits en sub-re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19280" y="3132000"/>
          <a:ext cx="8785080" cy="3700440"/>
        </p:xfrm>
        <a:graphic>
          <a:graphicData uri="http://schemas.openxmlformats.org/drawingml/2006/table">
            <a:tbl>
              <a:tblPr/>
              <a:tblGrid>
                <a:gridCol w="1222200"/>
                <a:gridCol w="2448000"/>
                <a:gridCol w="1297080"/>
                <a:gridCol w="1298520"/>
                <a:gridCol w="1297080"/>
                <a:gridCol w="12222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s en 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-red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/ sub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 disponib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rom 2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9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Punto a Pu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s proporcionan un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efectivo uso del espacio de direcciona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n ser usadas en comunicaciones punto a punt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 A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de broadcast es usada para “hablar” con todos l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broadcast es una dirección con la porción del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lient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figurada solo con 1’s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255 para la red 128.192.1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191 para la red  128.192.10.128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oadcasts son necesari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comunicación inicial con o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jemplo, resolu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HCP y asigna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56000" y="3995640"/>
            <a:ext cx="3887280" cy="1800000"/>
            <a:chOff x="3456000" y="3995640"/>
            <a:chExt cx="3887280" cy="1800000"/>
          </a:xfrm>
        </p:grpSpPr>
        <p:sp>
          <p:nvSpPr>
            <p:cNvPr id="215" name=""/>
            <p:cNvSpPr/>
            <p:nvPr/>
          </p:nvSpPr>
          <p:spPr>
            <a:xfrm>
              <a:off x="3666240" y="4795560"/>
              <a:ext cx="630000" cy="299160"/>
            </a:xfrm>
            <a:prstGeom prst="cube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3995640"/>
              <a:ext cx="418680" cy="40068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880" y="3995640"/>
              <a:ext cx="63216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6840" y="4995720"/>
              <a:ext cx="62928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280" y="469584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5"/>
              <a:endCxn id="217" idx="1"/>
            </p:cNvCxnSpPr>
            <p:nvPr/>
          </p:nvCxnSpPr>
          <p:spPr>
            <a:xfrm flipV="1">
              <a:off x="4296240" y="4145040"/>
              <a:ext cx="31500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5" idx="5"/>
              <a:endCxn id="218" idx="1"/>
            </p:cNvCxnSpPr>
            <p:nvPr/>
          </p:nvCxnSpPr>
          <p:spPr>
            <a:xfrm>
              <a:off x="4296600" y="4907160"/>
              <a:ext cx="2109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5" idx="0"/>
              <a:endCxn id="216" idx="3"/>
            </p:cNvCxnSpPr>
            <p:nvPr/>
          </p:nvCxnSpPr>
          <p:spPr>
            <a:xfrm flipH="1" flipV="1">
              <a:off x="3665880" y="4395960"/>
              <a:ext cx="354960" cy="39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3771000" y="5394600"/>
              <a:ext cx="418680" cy="40104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5" idx="3"/>
              <a:endCxn id="223" idx="1"/>
            </p:cNvCxnSpPr>
            <p:nvPr/>
          </p:nvCxnSpPr>
          <p:spPr>
            <a:xfrm>
              <a:off x="3941640" y="5094720"/>
              <a:ext cx="39960" cy="30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977080" y="4396320"/>
              <a:ext cx="1154880" cy="109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0520" y="439632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0520" y="4995720"/>
              <a:ext cx="421560" cy="40068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6720" y="51962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720" y="46958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720" y="419580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7" idx="3"/>
              <a:endCxn id="226" idx="1"/>
            </p:cNvCxnSpPr>
            <p:nvPr/>
          </p:nvCxnSpPr>
          <p:spPr>
            <a:xfrm>
              <a:off x="5243040" y="4145400"/>
              <a:ext cx="734400" cy="45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504720" y="1763640"/>
            <a:ext cx="907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Una red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usualmente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considerad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como un medio fisico que interconecta dispositivos que pueden transferir datos entre el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ominio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 dominio de broadcast es parte de la red que puede “oír” trafico de broadcast generado en los hosts de la r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Redes remotas pueden incorporarse dentro de un bridge sobre un túnel para crear un dominio de broadc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tocolo ARP (Protocolo de resolución de direcciones) es usado para asociar direcciones MAC con direcciones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ceso de ARP funciona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olicitante de ARP manda u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quete (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broadcast con la información del la ip destino, la ip origen y la dirección MAC, preguntando por la dirección MAC des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liente con la dirección ip destino manda un frame directo de regreso al solicitante llenando en el su dirección MAC y guardando la dirección MAC de el  en la tabla ARP o c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minimizar los broadcasts debidos a requisiciones tipo ARP, las direcciones ip de los clientes y los gateways guardan tablas de direcciones MAC y direcciones IP llamadas tablas de arp o c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uertos TCP/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a vez que los datos han arribado a su destino, los puertos de tcp/ip definen cual servicio o propósito tiene dicho trafico. Los puertos s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ositivos, números enteros de 16 bits (1…6553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muy conocidos son del 1…1023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;21 - 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 - S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 - Tel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- SM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0 - HT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0 - POP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43 – HT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definidos por el usuario son del 1024…655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definida como el par de números (ip_origen:puerto) y  (ip_destino:puerto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onexiones diferentes pueden usar el mismo puerto de destino en el server siempre y cuando los puertos origen o la ip origen sean difer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ablecimiento de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6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establecida usando un “proceso de 3 vías“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quisición d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Y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rver responde con SYN,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un 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8000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4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8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8000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0000" y="5580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000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andando Dat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7516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CP divide 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j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datos en seg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envía manda datos en en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recibe da acuse de re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manda, manda el siguiente segm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se recibe acuse de recibo, el segmento de datos se vuelve a m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so que la conexión sea abortada, una bandera RTS es usada para notificarle al que 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69080" y="1908000"/>
            <a:ext cx="0" cy="37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53440" y="1908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7640" y="1979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9440" y="1979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9080" y="1908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69080" y="3132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9080" y="2556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9080" y="3780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908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errando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conexión TCP es cerrada usando un proceso modificado de 3 v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inicia, manda una petición de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recibe responde con un acuse de recibo, con un FIN y una solicitud de acuse de recibo 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anda el acuse de reci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80000" y="4427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64360" y="4354560"/>
            <a:ext cx="0" cy="252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5720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9080" y="4500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442764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0000" y="622764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565164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0000" y="514656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 una red interna de un país ser considerada una intrane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 / No, Ejemplos 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extienden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deben ser usados para limitar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LANs y WA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local (LAN) usualmente esta limitada a un area limitada, ejemplo, dentro de un edificio o territorio local como un campus de universidad y puede consistir de una o mas redes físicas interconectad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amplia es una serie de LANS interconectadas y que se distribuye sobre un gran territorio o distanci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Intranets e Interne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as redes de acuerdo al control administrativo que tienen están clasificadas com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ran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Una Intranet son LANs o una WAN bajo un solo control administrativo y usualmente provee servicios para uso interno dentro de una organiz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nternet es una serie de of WANs interconectadas por diferentes tipos de medio y no tiene un solo control administr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otocolo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dispositivos usan protocolos para comunicarse entr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(Internetwork Protocol) es el principal y mas usado de los protocolos de red para que ellos se comuniq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ha sido diseñado para ma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plata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tipo d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tocolos de red son netBEUI, IPX/SPX, y Apple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ncapsulación e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10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es el concepto principal del diseño d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significa poner una cosa dentro de otra 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0" y="392436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0800000">
            <a:off x="609120" y="39621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etter"/>
          <p:cNvSpPr/>
          <p:nvPr/>
        </p:nvSpPr>
        <p:spPr>
          <a:xfrm>
            <a:off x="1676520" y="4038480"/>
            <a:ext cx="1623960" cy="85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05320"/>
            <a:ext cx="1584360" cy="503280"/>
          </a:xfrm>
          <a:custGeom>
            <a:avLst/>
            <a:gdLst>
              <a:gd name="textAreaLeft" fmla="*/ 267840 w 1584360"/>
              <a:gd name="textAreaRight" fmla="*/ 117684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04" hR="21600" stAng="10800000" swAng="5400000"/>
                <a:lnTo>
                  <a:pt x="12392" y="0"/>
                </a:lnTo>
                <a:arcTo wR="7304" hR="21600" stAng="-5400000" swAng="2787353"/>
                <a:lnTo>
                  <a:pt x="21250" y="14991"/>
                </a:lnTo>
                <a:lnTo>
                  <a:pt x="17152" y="21600"/>
                </a:lnTo>
                <a:lnTo>
                  <a:pt x="12354" y="14991"/>
                </a:lnTo>
                <a:lnTo>
                  <a:pt x="14258" y="14991"/>
                </a:lnTo>
                <a:arcTo wR="7304" hR="21600" stAng="-2612647" swAng="-2357668"/>
                <a:lnTo>
                  <a:pt x="9848" y="1353"/>
                </a:lnTo>
                <a:arcTo wR="7304" hR="21600" stAng="-5829685" swAng="-4970315"/>
                <a:close/>
              </a:path>
              <a:path fill="darkenLess" w="21600" h="21600">
                <a:moveTo>
                  <a:pt x="0" y="21600"/>
                </a:moveTo>
                <a:arcTo wR="7304" hR="21600" stAng="10800000" swAng="5400000"/>
                <a:lnTo>
                  <a:pt x="7304" y="0"/>
                </a:lnTo>
                <a:arcTo wR="7304" hR="21600" stAng="-5400000" swAng="429685"/>
                <a:lnTo>
                  <a:pt x="9848" y="1353"/>
                </a:lnTo>
                <a:arcTo wR="7304" hR="21600" stAng="-5829685" swAng="-497031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2690600">
            <a:off x="8640360" y="28425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248520"/>
            <a:ext cx="4105440" cy="718920"/>
          </a:xfrm>
          <a:custGeom>
            <a:avLst/>
            <a:gdLst>
              <a:gd name="textAreaLeft" fmla="*/ 823680 w 4105440"/>
              <a:gd name="textAreaRight" fmla="*/ 2871000 w 410544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-2917241"/>
                <a:lnTo>
                  <a:pt x="21104" y="7200"/>
                </a:lnTo>
                <a:lnTo>
                  <a:pt x="18389" y="0"/>
                </a:lnTo>
                <a:lnTo>
                  <a:pt x="14681" y="7200"/>
                </a:lnTo>
                <a:lnTo>
                  <a:pt x="16841" y="7200"/>
                </a:lnTo>
                <a:arcTo wR="8669" hR="21600" stAng="2482759" swAng="2748779"/>
                <a:lnTo>
                  <a:pt x="9720" y="21440"/>
                </a:lnTo>
                <a:arcTo wR="8669" hR="21600" stAng="5568461" swAng="5231539"/>
                <a:close/>
              </a:path>
              <a:path fill="darkenLess"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168461"/>
                <a:lnTo>
                  <a:pt x="9720" y="21440"/>
                </a:lnTo>
                <a:arcTo wR="8669" hR="21600" stAng="5568461" swAng="5231539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4952880"/>
            <a:ext cx="1224000" cy="12970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4475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4572000"/>
            <a:ext cx="1225800" cy="360360"/>
          </a:xfrm>
          <a:custGeom>
            <a:avLst/>
            <a:gdLst>
              <a:gd name="textAreaLeft" fmla="*/ 214560 w 1225800"/>
              <a:gd name="textAreaRight" fmla="*/ 888840 w 12258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etter"/>
          <p:cNvSpPr/>
          <p:nvPr/>
        </p:nvSpPr>
        <p:spPr>
          <a:xfrm>
            <a:off x="8229600" y="3505320"/>
            <a:ext cx="1623960" cy="850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ándar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pen System Interconnection (OSI) fue originalmente usado cuando se crearon los protocolos de red (tales como TCP/IP e IPX, etc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SI usa un modelo de 7 capas de red para describir el direccionamiento de red, análisis de datos, y capacidades de red del diferent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os beneficios de usar un modelo de capas s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capa del modelo OSI es responsable de ciertas tareas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tecnologías pueden convivir de una manera estandar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odelo OSI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29000" y="2133720"/>
          <a:ext cx="3581280" cy="39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Aplic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esent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Ses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Transport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nlace de dato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ísic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514600" y="2133720"/>
            <a:ext cx="576360" cy="3128760"/>
          </a:xfrm>
          <a:prstGeom prst="downArrow">
            <a:avLst>
              <a:gd name="adj1" fmla="val 56472"/>
              <a:gd name="adj2" fmla="val 52953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314840" y="2133720"/>
            <a:ext cx="576360" cy="3124080"/>
          </a:xfrm>
          <a:prstGeom prst="downArrow">
            <a:avLst>
              <a:gd name="adj1" fmla="val 56472"/>
              <a:gd name="adj2" fmla="val 5287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752480"/>
            <a:ext cx="21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360" y="176364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486400"/>
            <a:ext cx="57600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5486400"/>
            <a:ext cx="57636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apas del Modelo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 buen entendimiento de las primeras 3 capas de red es requerido para entender los conceptos básicos de red, com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de puertos, firewall, y N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1) La capa física son las conexiones físicas (cables, tarjetas de red y dispositivos que levantan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2) La capa de enlace de datos transfiere paquetes dentro de raw bits para ser transmitidos sobre la cap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) La capa de red es responsable del direccionamient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3T19:58:43Z</dcterms:modified>
  <cp:revision>83</cp:revision>
  <dc:subject/>
  <dc:title>TCP/IP Basics</dc:title>
</cp:coreProperties>
</file>